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4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10015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9370-D602-472F-924F-61DF8DB81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65B2-8B12-43E1-9896-719D4FA76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F2BC-1924-4209-BB36-CEEB73F15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BFD4-0A20-410A-8EF1-160196B49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F86E5-373E-4AAF-A5D9-9594E95DC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41D68-36A8-4412-8B5F-A91CA5EA2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D28D4-678B-492C-AB1F-D7AE5799E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A089A-AB35-4BAC-A8A1-5F11D8967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2D608-98E8-46AF-BE4A-396A38D02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A1C4C-DBE2-41B0-8F4A-AFD628E58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8F2A3-6379-4B26-9946-260588CD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2F1A-C75E-4942-BC17-F0B018CA3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FFE56-011A-489C-AEBD-A0723425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EC6A1-156D-49C8-8B8F-AEF30003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E48B9-CF70-412B-8BAA-230A85F01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3A5FB-7D72-4396-952D-65DD39728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15D42-3FAF-4C6F-8222-5ED8B2BF4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51A5-DAD5-4366-A285-EBB26AB7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8303-4914-4DC6-95C4-463CE04FC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A8F5-88A1-4FDD-839C-B5C05D730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565C-7B74-416F-B980-3E9B5D8F7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F1B8-BBFA-4768-83DD-C41A5FE8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1E08-6C4A-4288-82A3-704F9B41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B457-1294-49D2-B64C-7DF05DD7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1.pct"/><Relationship Id="rId4" Type="http://schemas.openxmlformats.org/officeDocument/2006/relationships/image" Target="../media/image1.pct"/><Relationship Id="rId5" Type="http://schemas.openxmlformats.org/officeDocument/2006/relationships/image" Target="../media/image1.pct"/><Relationship Id="rId6" Type="http://schemas.openxmlformats.org/officeDocument/2006/relationships/image" Target="../media/image1.pct"/><Relationship Id="rId7" Type="http://schemas.openxmlformats.org/officeDocument/2006/relationships/image" Target="../media/image1.pct"/><Relationship Id="rId8" Type="http://schemas.openxmlformats.org/officeDocument/2006/relationships/image" Target="../media/image1.pct"/><Relationship Id="rId9" Type="http://schemas.openxmlformats.org/officeDocument/2006/relationships/image" Target="../media/image1.pct"/><Relationship Id="rId10" Type="http://schemas.openxmlformats.org/officeDocument/2006/relationships/image" Target="../media/image1.pct"/><Relationship Id="rId11" Type="http://schemas.openxmlformats.org/officeDocument/2006/relationships/image" Target="../media/image1.pct"/><Relationship Id="rId12" Type="http://schemas.openxmlformats.org/officeDocument/2006/relationships/image" Target="../media/image1.pct"/><Relationship Id="rId13" Type="http://schemas.openxmlformats.org/officeDocument/2006/relationships/image" Target="../media/image1.pct"/><Relationship Id="rId14" Type="http://schemas.openxmlformats.org/officeDocument/2006/relationships/image" Target="../media/image1.pct"/><Relationship Id="rId15" Type="http://schemas.openxmlformats.org/officeDocument/2006/relationships/image" Target="../media/image1.pct"/><Relationship Id="rId16" Type="http://schemas.openxmlformats.org/officeDocument/2006/relationships/image" Target="../media/image1.pct"/><Relationship Id="rId17" Type="http://schemas.openxmlformats.org/officeDocument/2006/relationships/image" Target="../media/image1.pct"/><Relationship Id="rId18" Type="http://schemas.openxmlformats.org/officeDocument/2006/relationships/image" Target="../media/image1.pct"/><Relationship Id="rId19" Type="http://schemas.openxmlformats.org/officeDocument/2006/relationships/image" Target="../media/image1.pct"/><Relationship Id="rId20" Type="http://schemas.openxmlformats.org/officeDocument/2006/relationships/image" Target="../media/image1.pct"/><Relationship Id="rId21" Type="http://schemas.openxmlformats.org/officeDocument/2006/relationships/image" Target="../media/image1.pct"/><Relationship Id="rId22" Type="http://schemas.openxmlformats.org/officeDocument/2006/relationships/image" Target="../media/image1.pct"/><Relationship Id="rId23" Type="http://schemas.openxmlformats.org/officeDocument/2006/relationships/image" Target="../media/image1.pct"/><Relationship Id="rId24" Type="http://schemas.openxmlformats.org/officeDocument/2006/relationships/image" Target="../media/image1.pct"/><Relationship Id="rId25" Type="http://schemas.openxmlformats.org/officeDocument/2006/relationships/image" Target="../media/image1.pct"/><Relationship Id="rId26" Type="http://schemas.openxmlformats.org/officeDocument/2006/relationships/image" Target="../media/image1.pct"/><Relationship Id="rId27" Type="http://schemas.openxmlformats.org/officeDocument/2006/relationships/image" Target="../media/image1.pct"/><Relationship Id="rId28" Type="http://schemas.openxmlformats.org/officeDocument/2006/relationships/image" Target="../media/image1.pct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image" Target="../media/image1.pct"/><Relationship Id="rId4" Type="http://schemas.openxmlformats.org/officeDocument/2006/relationships/image" Target="../media/image1.pct"/><Relationship Id="rId5" Type="http://schemas.openxmlformats.org/officeDocument/2006/relationships/image" Target="../media/image1.pct"/><Relationship Id="rId6" Type="http://schemas.openxmlformats.org/officeDocument/2006/relationships/image" Target="../media/image1.pct"/><Relationship Id="rId7" Type="http://schemas.openxmlformats.org/officeDocument/2006/relationships/image" Target="../media/image1.pct"/><Relationship Id="rId8" Type="http://schemas.openxmlformats.org/officeDocument/2006/relationships/image" Target="../media/image1.pct"/><Relationship Id="rId9" Type="http://schemas.openxmlformats.org/officeDocument/2006/relationships/image" Target="../media/image1.pct"/><Relationship Id="rId10" Type="http://schemas.openxmlformats.org/officeDocument/2006/relationships/image" Target="../media/image1.pct"/><Relationship Id="rId11" Type="http://schemas.openxmlformats.org/officeDocument/2006/relationships/image" Target="../media/image1.pct"/><Relationship Id="rId12" Type="http://schemas.openxmlformats.org/officeDocument/2006/relationships/image" Target="../media/image1.pct"/><Relationship Id="rId13" Type="http://schemas.openxmlformats.org/officeDocument/2006/relationships/image" Target="../media/image1.pct"/><Relationship Id="rId14" Type="http://schemas.openxmlformats.org/officeDocument/2006/relationships/image" Target="../media/image1.pct"/><Relationship Id="rId15" Type="http://schemas.openxmlformats.org/officeDocument/2006/relationships/image" Target="../media/image1.pct"/><Relationship Id="rId16" Type="http://schemas.openxmlformats.org/officeDocument/2006/relationships/image" Target="../media/image1.pct"/><Relationship Id="rId17" Type="http://schemas.openxmlformats.org/officeDocument/2006/relationships/image" Target="../media/image1.pct"/><Relationship Id="rId18" Type="http://schemas.openxmlformats.org/officeDocument/2006/relationships/image" Target="../media/image1.pct"/><Relationship Id="rId19" Type="http://schemas.openxmlformats.org/officeDocument/2006/relationships/image" Target="../media/image1.pct"/><Relationship Id="rId20" Type="http://schemas.openxmlformats.org/officeDocument/2006/relationships/image" Target="../media/image1.pct"/><Relationship Id="rId21" Type="http://schemas.openxmlformats.org/officeDocument/2006/relationships/image" Target="../media/image1.pct"/><Relationship Id="rId22" Type="http://schemas.openxmlformats.org/officeDocument/2006/relationships/image" Target="../media/image1.pct"/><Relationship Id="rId23" Type="http://schemas.openxmlformats.org/officeDocument/2006/relationships/image" Target="../media/image1.pct"/><Relationship Id="rId24" Type="http://schemas.openxmlformats.org/officeDocument/2006/relationships/image" Target="../media/image1.pct"/><Relationship Id="rId25" Type="http://schemas.openxmlformats.org/officeDocument/2006/relationships/image" Target="../media/image1.pct"/><Relationship Id="rId26" Type="http://schemas.openxmlformats.org/officeDocument/2006/relationships/image" Target="../media/image1.pct"/><Relationship Id="rId27" Type="http://schemas.openxmlformats.org/officeDocument/2006/relationships/image" Target="../media/image1.pct"/><Relationship Id="rId28" Type="http://schemas.openxmlformats.org/officeDocument/2006/relationships/image" Target="../media/image1.pct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F284-3A4F-45B9-AAC2-BC92EDDDE650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285D3-4F02-4BB3-80C9-07236613ECC0}" type="slidenum">
              <a:rPr b="0" lang="en-GB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7d47d"/>
                </a:solidFill>
                <a:latin typeface="Comic Sans MS"/>
              </a:rPr>
              <a:t>-ER Verbs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5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7d47d"/>
                </a:solidFill>
                <a:latin typeface="Comic Sans MS"/>
              </a:rPr>
              <a:t>What does it mean in English?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24000" y="2204640"/>
            <a:ext cx="41767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Je</a:t>
            </a: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d5b781"/>
                </a:solidFill>
                <a:latin typeface="Comic Sans MS"/>
              </a:rPr>
              <a:t>dans</a:t>
            </a: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e</a:t>
            </a: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Tu</a:t>
            </a: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d5b781"/>
                </a:solidFill>
                <a:latin typeface="Comic Sans MS"/>
              </a:rPr>
              <a:t>dans</a:t>
            </a: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es</a:t>
            </a: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Il</a:t>
            </a: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d5b781"/>
                </a:solidFill>
                <a:latin typeface="Comic Sans MS"/>
              </a:rPr>
              <a:t>dans</a:t>
            </a: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e</a:t>
            </a: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Elle</a:t>
            </a: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d5b781"/>
                </a:solidFill>
                <a:latin typeface="Comic Sans MS"/>
              </a:rPr>
              <a:t>dans</a:t>
            </a: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e</a:t>
            </a: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On</a:t>
            </a: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d5b781"/>
                </a:solidFill>
                <a:latin typeface="Comic Sans MS"/>
              </a:rPr>
              <a:t>dans</a:t>
            </a: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e</a:t>
            </a: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Nous</a:t>
            </a: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d5b781"/>
                </a:solidFill>
                <a:latin typeface="Comic Sans MS"/>
              </a:rPr>
              <a:t>dans</a:t>
            </a: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ons</a:t>
            </a: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Vous</a:t>
            </a: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d5b781"/>
                </a:solidFill>
                <a:latin typeface="Comic Sans MS"/>
              </a:rPr>
              <a:t>dans</a:t>
            </a: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ez</a:t>
            </a: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Ils</a:t>
            </a: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d5b781"/>
                </a:solidFill>
                <a:latin typeface="Comic Sans MS"/>
              </a:rPr>
              <a:t>dans</a:t>
            </a: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ent</a:t>
            </a: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Elles</a:t>
            </a: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d5b781"/>
                </a:solidFill>
                <a:latin typeface="Comic Sans MS"/>
              </a:rPr>
              <a:t>dans</a:t>
            </a: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ent</a:t>
            </a: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3635280" y="2205000"/>
            <a:ext cx="37450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99ff"/>
                </a:solidFill>
                <a:latin typeface="Comic Sans MS"/>
              </a:rPr>
              <a:t>I danc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99ff"/>
                </a:solidFill>
                <a:latin typeface="Comic Sans MS"/>
              </a:rPr>
              <a:t>You dance (informal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99ff"/>
                </a:solidFill>
                <a:latin typeface="Comic Sans MS"/>
              </a:rPr>
              <a:t>He dance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99ff"/>
                </a:solidFill>
                <a:latin typeface="Comic Sans MS"/>
              </a:rPr>
              <a:t>She dance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99ff"/>
                </a:solidFill>
                <a:latin typeface="Comic Sans MS"/>
              </a:rPr>
              <a:t>One / Someone dance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99ff"/>
                </a:solidFill>
                <a:latin typeface="Comic Sans MS"/>
              </a:rPr>
              <a:t>We danc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99ff"/>
                </a:solidFill>
                <a:latin typeface="Comic Sans MS"/>
              </a:rPr>
              <a:t>You dance (formal / group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99ff"/>
                </a:solidFill>
                <a:latin typeface="Comic Sans MS"/>
              </a:rPr>
              <a:t>They dance (masculine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99ff"/>
                </a:solidFill>
                <a:latin typeface="Comic Sans MS"/>
              </a:rPr>
              <a:t>They dance (feminine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8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5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0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5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0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5" dur="5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0" dur="500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5" dur="500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0" dur="500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5" dur="500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0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5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0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5" dur="5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0" dur="5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5" dur="50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0" dur="500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5" dur="500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0" dur="500"/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5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7d47d"/>
                </a:solidFill>
                <a:latin typeface="Comic Sans MS"/>
              </a:rPr>
              <a:t>Translate into French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24000" y="2204640"/>
            <a:ext cx="73864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He like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We liv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You (informal) play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I hat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She eat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They (masc.) listen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You (formal) sing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Someone work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They watch (fem.)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8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7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2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7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2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7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2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7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2" dur="5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7" dur="500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5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7d47d"/>
                </a:solidFill>
                <a:latin typeface="Comic Sans MS"/>
              </a:rPr>
              <a:t>Answer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24000" y="2204640"/>
            <a:ext cx="331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He like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We liv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You (informal) play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I hat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She eat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They (masc.) listen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You (formal) sing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Someone work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They watch (fem.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211640" y="2205000"/>
            <a:ext cx="30970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Il aim</a:t>
            </a: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Nous habit</a:t>
            </a: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on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Tu jou</a:t>
            </a: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e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Je détest</a:t>
            </a: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Elle mang</a:t>
            </a: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Ils écout</a:t>
            </a: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ent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Vous chant</a:t>
            </a: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ez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On travaill</a:t>
            </a: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Elles regard</a:t>
            </a: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ent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8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94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99" dur="1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04" dur="10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09" dur="10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14" dur="10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19" dur="10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24" dur="1000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29" dur="1000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34" dur="1000"/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39" dur="1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4" dur="1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9" dur="10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4" dur="10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9" dur="10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4" dur="10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9" dur="1000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4" dur="1000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9" dur="1000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7d47d"/>
                </a:solidFill>
                <a:latin typeface="Comic Sans MS"/>
              </a:rPr>
              <a:t>What is an –ER Verb ?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An –ER verb is a ‘doing word’ that </a:t>
            </a:r>
            <a:r>
              <a:rPr b="1" lang="fr-FR" sz="3200" spc="-1" strike="noStrike" u="sng">
                <a:solidFill>
                  <a:srgbClr val="79af7d"/>
                </a:solidFill>
                <a:uFillTx/>
                <a:latin typeface="Comic Sans MS"/>
              </a:rPr>
              <a:t>ends in –ER</a:t>
            </a: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Eg: </a:t>
            </a: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achet</a:t>
            </a:r>
            <a:r>
              <a:rPr b="1" lang="fr-FR" sz="3200" spc="-1" strike="noStrike">
                <a:solidFill>
                  <a:srgbClr val="79af7d"/>
                </a:solidFill>
                <a:latin typeface="Comic Sans MS"/>
              </a:rPr>
              <a:t>er</a:t>
            </a: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to buy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aim</a:t>
            </a:r>
            <a:r>
              <a:rPr b="1" lang="fr-FR" sz="3200" spc="-1" strike="noStrike">
                <a:solidFill>
                  <a:srgbClr val="79af7d"/>
                </a:solidFill>
                <a:latin typeface="Comic Sans MS"/>
              </a:rPr>
              <a:t>er</a:t>
            </a: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to lik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écout</a:t>
            </a:r>
            <a:r>
              <a:rPr b="1" lang="fr-FR" sz="3200" spc="-1" strike="noStrike">
                <a:solidFill>
                  <a:srgbClr val="79af7d"/>
                </a:solidFill>
                <a:latin typeface="Comic Sans MS"/>
              </a:rPr>
              <a:t>er</a:t>
            </a: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to liste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habit</a:t>
            </a:r>
            <a:r>
              <a:rPr b="1" lang="fr-FR" sz="3200" spc="-1" strike="noStrike">
                <a:solidFill>
                  <a:srgbClr val="79af7d"/>
                </a:solidFill>
                <a:latin typeface="Comic Sans MS"/>
              </a:rPr>
              <a:t>er</a:t>
            </a: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to liv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5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7d47d"/>
                </a:solidFill>
                <a:latin typeface="Comic Sans MS"/>
              </a:rPr>
              <a:t>How do you form the present tense of –ER verbs?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24000" y="2205000"/>
            <a:ext cx="73864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It is very easy!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All you need to do is remember </a:t>
            </a:r>
            <a:r>
              <a:rPr b="1" lang="fr-FR" sz="3200" spc="-1" strike="noStrike" u="sng">
                <a:solidFill>
                  <a:srgbClr val="cc99ff"/>
                </a:solidFill>
                <a:uFillTx/>
                <a:latin typeface="Comic Sans MS"/>
              </a:rPr>
              <a:t>5 easy steps</a:t>
            </a: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..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6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" dur="2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5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99ff"/>
                </a:solidFill>
                <a:latin typeface="Comic Sans MS"/>
              </a:rPr>
              <a:t>STEP 1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4000" y="2205000"/>
            <a:ext cx="73864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Chose you –ER verb and write it down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DANSER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(to dance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5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99ff"/>
                </a:solidFill>
                <a:latin typeface="Comic Sans MS"/>
              </a:rPr>
              <a:t>STEP 2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24000" y="2204640"/>
            <a:ext cx="73864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Take off the –ER ending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You are left with </a:t>
            </a:r>
            <a:r>
              <a:rPr b="1" lang="fr-FR" sz="3200" spc="-1" strike="noStrike">
                <a:solidFill>
                  <a:srgbClr val="d5b781"/>
                </a:solidFill>
                <a:latin typeface="Comic Sans MS"/>
              </a:rPr>
              <a:t>THE STEM</a:t>
            </a: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‘</a:t>
            </a: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DANS’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       </a:t>
            </a: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(this is your </a:t>
            </a:r>
            <a:r>
              <a:rPr b="1" lang="fr-FR" sz="3200" spc="-1" strike="noStrike">
                <a:solidFill>
                  <a:srgbClr val="d5b781"/>
                </a:solidFill>
                <a:latin typeface="Comic Sans MS"/>
              </a:rPr>
              <a:t>stem</a:t>
            </a: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5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99ff"/>
                </a:solidFill>
                <a:latin typeface="Comic Sans MS"/>
              </a:rPr>
              <a:t>STEP 3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24000" y="2205000"/>
            <a:ext cx="73864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Write the 9 subjects of your verb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Je</a:t>
            </a: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Tu</a:t>
            </a: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Il</a:t>
            </a: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Elle</a:t>
            </a: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On</a:t>
            </a: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Nous</a:t>
            </a: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Vous</a:t>
            </a: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Ils</a:t>
            </a: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Elles</a:t>
            </a: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2627280" y="2205000"/>
            <a:ext cx="352908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mic Sans MS"/>
              </a:rPr>
              <a:t>You (informal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mic Sans MS"/>
              </a:rPr>
              <a:t>H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mic Sans MS"/>
              </a:rPr>
              <a:t>Sh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mic Sans MS"/>
              </a:rPr>
              <a:t>One / Someon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mic Sans MS"/>
              </a:rPr>
              <a:t>W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mic Sans MS"/>
              </a:rPr>
              <a:t>You (formal / group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mic Sans MS"/>
              </a:rPr>
              <a:t>They (masculine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mic Sans MS"/>
              </a:rPr>
              <a:t>They (feminine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1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1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10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10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10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1000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1000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1000"/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1000"/>
                                        <p:tgtEl>
                                          <p:spTgt spid="2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1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10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10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10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10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10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1000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1000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1000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5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99ff"/>
                </a:solidFill>
                <a:latin typeface="Comic Sans MS"/>
              </a:rPr>
              <a:t>STEP 4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24000" y="2204640"/>
            <a:ext cx="73864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Write </a:t>
            </a:r>
            <a:r>
              <a:rPr b="1" lang="fr-FR" sz="3200" spc="-1" strike="noStrike">
                <a:solidFill>
                  <a:srgbClr val="d5b781"/>
                </a:solidFill>
                <a:latin typeface="Comic Sans MS"/>
              </a:rPr>
              <a:t>the stem</a:t>
            </a: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 next to your 9 subjects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Je</a:t>
            </a: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d5b781"/>
                </a:solidFill>
                <a:latin typeface="Comic Sans MS"/>
              </a:rPr>
              <a:t>dan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Tu</a:t>
            </a: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d5b781"/>
                </a:solidFill>
                <a:latin typeface="Comic Sans MS"/>
              </a:rPr>
              <a:t>dan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Il</a:t>
            </a: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d5b781"/>
                </a:solidFill>
                <a:latin typeface="Comic Sans MS"/>
              </a:rPr>
              <a:t>dan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Elle</a:t>
            </a: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d5b781"/>
                </a:solidFill>
                <a:latin typeface="Comic Sans MS"/>
              </a:rPr>
              <a:t>dan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On</a:t>
            </a: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d5b781"/>
                </a:solidFill>
                <a:latin typeface="Comic Sans MS"/>
              </a:rPr>
              <a:t>dan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Nous</a:t>
            </a: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d5b781"/>
                </a:solidFill>
                <a:latin typeface="Comic Sans MS"/>
              </a:rPr>
              <a:t>dan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Vous</a:t>
            </a: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d5b781"/>
                </a:solidFill>
                <a:latin typeface="Comic Sans MS"/>
              </a:rPr>
              <a:t>dan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Ils</a:t>
            </a: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d5b781"/>
                </a:solidFill>
                <a:latin typeface="Comic Sans MS"/>
              </a:rPr>
              <a:t>dan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Elles</a:t>
            </a: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d5b781"/>
                </a:solidFill>
                <a:latin typeface="Comic Sans MS"/>
              </a:rPr>
              <a:t>dan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1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6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1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6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1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6" dur="500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1" dur="500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6" dur="500"/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1" dur="500"/>
                                        <p:tgtEl>
                                          <p:spTgt spid="2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5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99ff"/>
                </a:solidFill>
                <a:latin typeface="Comic Sans MS"/>
              </a:rPr>
              <a:t>STEP 5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24000" y="2204640"/>
            <a:ext cx="73864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Write the present tense </a:t>
            </a:r>
            <a:r>
              <a:rPr b="1" lang="fr-FR" sz="3200" spc="-1" strike="noStrike">
                <a:solidFill>
                  <a:srgbClr val="00ffcc"/>
                </a:solidFill>
                <a:latin typeface="Comic Sans MS"/>
              </a:rPr>
              <a:t>endings</a:t>
            </a: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 at the end of </a:t>
            </a:r>
            <a:r>
              <a:rPr b="1" lang="fr-FR" sz="3200" spc="-1" strike="noStrike">
                <a:solidFill>
                  <a:srgbClr val="d5b781"/>
                </a:solidFill>
                <a:latin typeface="Comic Sans MS"/>
              </a:rPr>
              <a:t>the stem</a:t>
            </a:r>
            <a:r>
              <a:rPr b="0" lang="fr-FR" sz="3200" spc="-1" strike="noStrike">
                <a:solidFill>
                  <a:srgbClr val="2f1311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Je</a:t>
            </a: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d5b781"/>
                </a:solidFill>
                <a:latin typeface="Comic Sans MS"/>
              </a:rPr>
              <a:t>dans</a:t>
            </a: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Tu</a:t>
            </a: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d5b781"/>
                </a:solidFill>
                <a:latin typeface="Comic Sans MS"/>
              </a:rPr>
              <a:t>dans</a:t>
            </a: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e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Il</a:t>
            </a: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d5b781"/>
                </a:solidFill>
                <a:latin typeface="Comic Sans MS"/>
              </a:rPr>
              <a:t>dans</a:t>
            </a: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Elle</a:t>
            </a: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d5b781"/>
                </a:solidFill>
                <a:latin typeface="Comic Sans MS"/>
              </a:rPr>
              <a:t>dans</a:t>
            </a: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On</a:t>
            </a: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d5b781"/>
                </a:solidFill>
                <a:latin typeface="Comic Sans MS"/>
              </a:rPr>
              <a:t>dans</a:t>
            </a: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Nous</a:t>
            </a: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d5b781"/>
                </a:solidFill>
                <a:latin typeface="Comic Sans MS"/>
              </a:rPr>
              <a:t>dans</a:t>
            </a: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on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Vous</a:t>
            </a: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d5b781"/>
                </a:solidFill>
                <a:latin typeface="Comic Sans MS"/>
              </a:rPr>
              <a:t>dans</a:t>
            </a: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ez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Ils</a:t>
            </a: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d5b781"/>
                </a:solidFill>
                <a:latin typeface="Comic Sans MS"/>
              </a:rPr>
              <a:t>dans</a:t>
            </a: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ent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Elles</a:t>
            </a:r>
            <a:r>
              <a:rPr b="1" lang="fr-FR" sz="1800" spc="-1" strike="noStrike">
                <a:solidFill>
                  <a:srgbClr val="2f1311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d5b781"/>
                </a:solidFill>
                <a:latin typeface="Comic Sans MS"/>
              </a:rPr>
              <a:t>dans</a:t>
            </a:r>
            <a:r>
              <a:rPr b="1" lang="fr-FR" sz="1800" spc="-1" strike="noStrike">
                <a:solidFill>
                  <a:srgbClr val="00ffcc"/>
                </a:solidFill>
                <a:latin typeface="Comic Sans MS"/>
              </a:rPr>
              <a:t>ent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2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5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7d47d"/>
                </a:solidFill>
                <a:latin typeface="Comic Sans MS"/>
              </a:rPr>
              <a:t>Remember the endings!!!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555640" y="2204640"/>
            <a:ext cx="16556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on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ez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en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en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6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19:39:30Z</dcterms:created>
  <dc:creator> </dc:creator>
  <dc:description/>
  <dc:language>en-US</dc:language>
  <cp:lastModifiedBy>nssd112</cp:lastModifiedBy>
  <dcterms:modified xsi:type="dcterms:W3CDTF">2010-09-21T03:05:38Z</dcterms:modified>
  <cp:revision>30</cp:revision>
  <dc:subject/>
  <dc:title>-ER Verbs</dc:title>
</cp:coreProperties>
</file>